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whoosh.wav" ContentType="audio/x-wav"/>
  <Override PartName="/ppt/media/image12.jpeg" ContentType="image/jpeg"/>
  <Override PartName="/ppt/media/image16.jpeg" ContentType="image/jpeg"/>
  <Override PartName="/ppt/media/image14.png" ContentType="image/png"/>
  <Override PartName="/ppt/media/image13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CF5E-A399-4BC1-9AD3-FA2B1AEDD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32F6-433C-4D98-944D-51DF23F3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48CE-0F08-4934-8081-44B224DD0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378B-487A-4AF4-96E4-52157C19C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A523-53D6-4722-95B4-95B8E190C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E96D-B9D3-4001-AEA6-E3CF0B0A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11B1-7004-40FA-998E-F9220741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5BFE-D8C0-4322-AE32-9AC49875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3041-06ED-4242-953C-3A1CDB59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BC97E-5665-416D-AFA1-6AF70354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4F4E-E224-4322-BE4F-4B0E102A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F7F0-E603-4684-A196-62355351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7754E-F0E2-4DD7-887C-D400211C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32A2-7C6C-45F3-93FF-106D43EB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4E6CB-E916-4EF1-AF9F-F3FF8A66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5DAF-C814-484A-8CE6-60F9A28D3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AAB6D-C1BB-4C1A-8A86-F81165CA2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6C69-5220-4CB8-B1AB-0C4D2959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89E7-2614-4799-848A-83D0CBCE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D4AF-96CE-4011-8BD8-5E260532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E045-BE59-44CE-87C7-50982737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ACA7-D627-4960-B424-475750FF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27A1-30F9-4177-8D3C-EAEE73A0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DD4B-B102-473A-8A6A-40D1DC49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07D2-688F-4425-B2CC-A50865215CA9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C68E-C32F-4FBC-8635-0097DD607AD9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octaedro.com/prod_show.asp?art_no=12315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ervantesvirtual.com/extras_obra/000021/cartel_lazarillo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progressive.stream.aol.com/newline/gl/newline/trailers/elf/Elf-300-FF_dl.mov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800" spc="-1" strike="noStrike">
                <a:solidFill>
                  <a:srgbClr val="221304"/>
                </a:solidFill>
                <a:latin typeface="Goudy Stout"/>
              </a:rPr>
              <a:t>Lazarillo de Tormes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23880" y="50860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Unique"/>
              </a:rPr>
              <a:t>Anóni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9880" y="1981080"/>
            <a:ext cx="1886040" cy="2854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221304"/>
                </a:solidFill>
                <a:latin typeface="Times New Roman"/>
              </a:rPr>
              <a:t>Músic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Diego Orti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000000"/>
                </a:solidFill>
                <a:latin typeface="Times New Roman"/>
              </a:rPr>
              <a:t>Recercada Segunda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Fue creado para el rey Felipe el Segu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048120" y="4343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105520" y="2209680"/>
            <a:ext cx="3176640" cy="3189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3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221304"/>
                </a:solidFill>
                <a:latin typeface="Times New Roman"/>
              </a:rPr>
              <a:t>El Centro del Cin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18960" y="3809880"/>
            <a:ext cx="37335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Lázaro de Tormes (200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El Lazarillo de Tormes (195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1752480"/>
            <a:ext cx="2927520" cy="40356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143000" y="160020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Hay muchas películas y dramas para el teatro sobre </a:t>
            </a:r>
            <a:r>
              <a:rPr b="0" i="1" lang="es-AR" sz="2400" spc="-1" strike="noStrike">
                <a:solidFill>
                  <a:srgbClr val="000000"/>
                </a:solidFill>
                <a:latin typeface="Times New Roman"/>
              </a:rPr>
              <a:t>Lazarillo de Tormes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. Mucho de estos, incluyendo lo mas reciente, no refleja la ob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221304"/>
                </a:solidFill>
                <a:latin typeface="Times New Roman"/>
              </a:rPr>
              <a:t>El Centro del Cin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52480" y="2666880"/>
            <a:ext cx="655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Una Versión Moderna de Lazarillo de Tor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221304"/>
                </a:solidFill>
                <a:latin typeface="Times New Roman"/>
              </a:rPr>
              <a:t>Bibliografi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http://www.costumes.org/history/100pages/timeli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nepages/1535to1570b.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http://www.cyberspain.com/ciudades-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patrimonio/fotos/salpuen.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http://www.red2000.com/spain/burgos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http://us.imdb.com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"Lazarillo de Tormes." </a:t>
            </a:r>
            <a:r>
              <a:rPr b="0" lang="es-AR" sz="2800" spc="-1" strike="noStrike" u="sng">
                <a:solidFill>
                  <a:srgbClr val="000000"/>
                </a:solidFill>
                <a:uFillTx/>
                <a:latin typeface="Times New Roman"/>
              </a:rPr>
              <a:t>Enciclopedia 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 u="sng">
                <a:solidFill>
                  <a:srgbClr val="000000"/>
                </a:solidFill>
                <a:uFillTx/>
                <a:latin typeface="Times New Roman"/>
              </a:rPr>
              <a:t>BARSA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. p.302. Volume 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000000"/>
                </a:solidFill>
                <a:uFillTx/>
                <a:latin typeface="Times New Roman"/>
              </a:rPr>
              <a:t>Historia de la literatura Espanola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. Vol. 1. Angel 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Valbuena Prat, 501-52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221304"/>
                </a:solidFill>
                <a:latin typeface="Times New Roman"/>
              </a:rPr>
              <a:t>Bibliografi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http://www.ups.edu/faculty/velez/Span_40</a:t>
            </a: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2/Lazaro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http://www.elazarillo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000000"/>
                </a:solidFill>
                <a:uFillTx/>
                <a:latin typeface="Times New Roman"/>
              </a:rPr>
              <a:t>Lazarillo de Tormes</a:t>
            </a: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s-AR" sz="3200" spc="-1" strike="noStrike" u="sng">
                <a:solidFill>
                  <a:srgbClr val="000000"/>
                </a:solidFill>
                <a:uFillTx/>
                <a:latin typeface="Times New Roman"/>
              </a:rPr>
              <a:t>Abriendo Puertas</a:t>
            </a: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Nextext, 2003. 276-33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221304"/>
                </a:solidFill>
                <a:latin typeface="Times New Roman"/>
              </a:rPr>
              <a:t>Centro Históric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Fue escrito durante el siglo diecisé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España fue lo mas poderoso de todo el mundo hasta 1588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La primera novela picares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El Renacimiento causa un gran movimiento artístico, literario, y de cienci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Eventos Importan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La exploración de las Amér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La Re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La Inquisi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1981080"/>
            <a:ext cx="3657600" cy="34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Personas Importan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Felipe el Segu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Martin Lu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Los Conquist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Otras obr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Times New Roman"/>
              </a:rPr>
              <a:t>Don Quijote de La Manc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Times New Roman"/>
              </a:rPr>
              <a:t>Naufrag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Mercurio y Carón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221304"/>
                </a:solidFill>
                <a:latin typeface="Times New Roman"/>
              </a:rPr>
              <a:t>El Libr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Genero: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 La primera novela picaresca, escribió como una critica de los nobles, la iglesia, y  los minorí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Tema Central: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 Ham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Temas Secundarias: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 La pobreza, el maltratamiento, el antihéroe, y el honor vs. la hon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Símbolos: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 El poste, el arca, y l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tres am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Técnicas Literarias: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 Paralelism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prosopopeya, sátira, y  hipérbo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858000" y="4419720"/>
            <a:ext cx="1486080" cy="1989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221304"/>
                </a:solidFill>
                <a:latin typeface="Times New Roman"/>
              </a:rPr>
              <a:t>Centro Biográfic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520" y="2743200"/>
            <a:ext cx="5334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Diego Hurtado de Mendo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Sebastián de Horoz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Fray Juan de Orteg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Alfonso de Val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167652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Generalmente, la obra esta considerado a ser anonimo, pero hay autores posibles. Algunos de esto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5122800"/>
            <a:ext cx="7315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l libro esta considerado a ser un autobiografía, y por esto, el autor tuvo que hacer algunas de las mismas experiencias como Lazaril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221304"/>
                </a:solidFill>
                <a:latin typeface="Times New Roman"/>
              </a:rPr>
              <a:t>Alfonso de Vald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198108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Considerado por mucho a ser el autor. Rosa Navarro, catedrática de Literatura de la Universidad de Barcelona, paso tres anos estudiando la obra, y decidió que Alfonso de Valdes es el aut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4419720"/>
            <a:ext cx="7620120" cy="1511280"/>
          </a:xfrm>
          <a:prstGeom prst="rect">
            <a:avLst/>
          </a:prstGeom>
          <a:solidFill>
            <a:srgbClr val="a1bd6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00080"/>
                </a:solidFill>
                <a:latin typeface="Times New Roman"/>
                <a:ea typeface="Times New Roman"/>
              </a:rPr>
              <a:t>LA V</a:t>
            </a:r>
            <a:r>
              <a:rPr b="0" i="1" lang="en-US" sz="21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ida de Lazarillo de Tormes, y de sus fortunas y adversida</a:t>
            </a:r>
            <a:r>
              <a:rPr b="1" lang="en-US" sz="2100" spc="-1" strike="noStrike">
                <a:solidFill>
                  <a:srgbClr val="400080"/>
                </a:solidFill>
                <a:latin typeface="Times New Roman"/>
                <a:ea typeface="Times New Roman"/>
              </a:rPr>
              <a:t>D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0080"/>
                </a:solidFill>
                <a:latin typeface="Times New Roman"/>
                <a:ea typeface="Times New Roman"/>
              </a:rPr>
              <a:t>VAL  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221304"/>
                </a:solidFill>
                <a:latin typeface="Times New Roman"/>
              </a:rPr>
              <a:t>Centro Socia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El vestuari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95680" y="1905120"/>
            <a:ext cx="1595520" cy="2392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34340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Persona Típ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752480" y="2590920"/>
            <a:ext cx="1932120" cy="2773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600200" y="5562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Sas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934320" y="1981080"/>
            <a:ext cx="1557360" cy="23781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705720" y="45720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nora de Tole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221304"/>
                </a:solidFill>
                <a:latin typeface="Times New Roman"/>
              </a:rPr>
              <a:t>Vestuari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523880" y="2362320"/>
            <a:ext cx="2081160" cy="2925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219320" y="54100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lipe, 15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638680" y="2209680"/>
            <a:ext cx="1791000" cy="2697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257800" y="51814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t, 15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221304"/>
                </a:solidFill>
                <a:latin typeface="Times New Roman"/>
              </a:rPr>
              <a:t>Viaj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Comien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 en Salaman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También ocurre en Almorox, Escalona, y Tole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Publicó en Burgos, Alcala, y Ambe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salamanca"/>
          <p:cNvPicPr/>
          <p:nvPr/>
        </p:nvPicPr>
        <p:blipFill>
          <a:blip r:embed="rId1"/>
          <a:stretch/>
        </p:blipFill>
        <p:spPr>
          <a:xfrm>
            <a:off x="4724280" y="2133720"/>
            <a:ext cx="4000680" cy="2582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257800" y="502920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nte Romano, el Rio Tor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221304"/>
                </a:solidFill>
                <a:latin typeface="Times New Roman"/>
              </a:rPr>
              <a:t>Lugares que yo visitaría…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ama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4600" y="53341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le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05320" y="54864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r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salamanca"/>
          <p:cNvPicPr/>
          <p:nvPr/>
        </p:nvPicPr>
        <p:blipFill>
          <a:blip r:embed="rId1"/>
          <a:stretch/>
        </p:blipFill>
        <p:spPr>
          <a:xfrm>
            <a:off x="6400800" y="1752480"/>
            <a:ext cx="2252520" cy="3489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219320" y="2209680"/>
            <a:ext cx="1292040" cy="28926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2819520" y="3276720"/>
            <a:ext cx="3352680" cy="216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4T18:54:02Z</dcterms:created>
  <dc:creator>Valued Gateway Client</dc:creator>
  <dc:description/>
  <dc:language>en-US</dc:language>
  <cp:lastModifiedBy>cyfair</cp:lastModifiedBy>
  <dcterms:modified xsi:type="dcterms:W3CDTF">2004-10-12T20:18:08Z</dcterms:modified>
  <cp:revision>8</cp:revision>
  <dc:subject/>
  <dc:title>Lazarillo de Tormes</dc:title>
</cp:coreProperties>
</file>